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670" spc="-1" strike="noStrike">
                <a:solidFill>
                  <a:srgbClr val="000000"/>
                </a:solidFill>
                <a:latin typeface="Arial"/>
                <a:ea typeface="Arial"/>
              </a:defRPr>
            </a:pPr>
            <a:r>
              <a:rPr b="0" sz="2670" spc="-1" strike="noStrike">
                <a:solidFill>
                  <a:srgbClr val="000000"/>
                </a:solidFill>
                <a:latin typeface="Arial"/>
                <a:ea typeface="Arial"/>
              </a:rPr>
              <a:t>Running time</a:t>
            </a:r>
          </a:p>
        </c:rich>
      </c:tx>
      <c:layout>
        <c:manualLayout>
          <c:xMode val="edge"/>
          <c:yMode val="edge"/>
          <c:x val="0.376973885656795"/>
          <c:y val="0.0199374782910733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591487686453"/>
          <c:y val="0.132546022924627"/>
          <c:w val="0.796509339049035"/>
          <c:h val="0.847585967349774"/>
        </c:manualLayout>
      </c:layout>
      <c:lineChart>
        <c:grouping val="standard"/>
        <c:varyColors val="0"/>
        <c:ser>
          <c:idx val="0"/>
          <c:order val="0"/>
          <c:tx>
            <c:strRef>
              <c:f>categories</c:f>
              <c:strCache>
                <c:ptCount val="1"/>
                <c:pt idx="0">
                  <c:v>1 2 3 4</c:v>
                </c:pt>
              </c:strCache>
            </c:strRef>
          </c:tx>
          <c:spPr>
            <a:solidFill>
              <a:srgbClr val="800080"/>
            </a:solidFill>
            <a:ln w="0">
              <a:solidFill>
                <a:srgbClr val="800080"/>
              </a:solidFill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3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label 0</c:f>
              <c:strCache>
                <c:ptCount val="1"/>
                <c:pt idx="0">
                  <c:v>Running tim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168</c:v>
                </c:pt>
                <c:pt idx="1">
                  <c:v>84</c:v>
                </c:pt>
                <c:pt idx="2">
                  <c:v>57</c:v>
                </c:pt>
                <c:pt idx="3">
                  <c:v>43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19380448"/>
        <c:axId val="61346360"/>
      </c:lineChart>
      <c:catAx>
        <c:axId val="19380448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185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0" sz="185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ber of correlator nodes</a:t>
                </a:r>
              </a:p>
            </c:rich>
          </c:tx>
          <c:layout>
            <c:manualLayout>
              <c:xMode val="edge"/>
              <c:yMode val="edge"/>
              <c:x val="0.28507064432877"/>
              <c:y val="0.923515109412991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44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1346360"/>
        <c:crossesAt val="0"/>
        <c:auto val="1"/>
        <c:lblAlgn val="ctr"/>
        <c:lblOffset val="100"/>
        <c:noMultiLvlLbl val="0"/>
      </c:catAx>
      <c:valAx>
        <c:axId val="61346360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185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0" sz="185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conds</a:t>
                </a:r>
              </a:p>
            </c:rich>
          </c:tx>
          <c:layout>
            <c:manualLayout>
              <c:xMode val="edge"/>
              <c:yMode val="edge"/>
              <c:x val="0.0198591487686453"/>
              <c:y val="0.383813824244529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44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9380448"/>
        <c:crosses val="min"/>
        <c:crossBetween val="between"/>
      </c:valAx>
      <c:spPr>
        <a:noFill/>
        <a:ln w="0">
          <a:noFill/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49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49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49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49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9EAC0-1CA6-49F2-9AB4-40E747DA4F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143000" y="685800"/>
            <a:ext cx="4552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143000" y="685800"/>
            <a:ext cx="455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43000" y="685800"/>
            <a:ext cx="455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143000" y="685800"/>
            <a:ext cx="455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7EA-1FE3-461A-B4F3-DDCEFAD7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072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072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2DC3-E0BE-46F0-9958-53346590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272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2720" y="384768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B0EC-03E9-42AD-A3B0-F57CC68B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2080" y="114264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6960" y="114264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2080" y="384768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6960" y="384768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B8A-3B5E-4978-A01C-E2403085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072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072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050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720" y="1142640"/>
            <a:ext cx="40050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33440"/>
            <a:ext cx="82072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3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720" y="1142640"/>
            <a:ext cx="40050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072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6DB-C3FA-456F-90F5-3A0529F2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050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272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720" y="384768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272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072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072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072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72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2720" y="384768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2080" y="114264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960" y="114264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2080" y="384768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960" y="3847680"/>
            <a:ext cx="2642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072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0ED-15F8-4948-8807-E904A4B7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050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2720" y="1142640"/>
            <a:ext cx="40050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79C-A2F3-4671-9FED-CD952852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BFA-2539-40F2-A5F8-DCA68C46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33440"/>
            <a:ext cx="82072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3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E0D5-83F5-4C1C-8474-6CCC7C90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720" y="1142640"/>
            <a:ext cx="40050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4A9-A31C-448A-9603-E75EFD18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050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272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720" y="384768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208-4EF3-49F1-BDCD-D2B1B3C7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720" y="1142640"/>
            <a:ext cx="4005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072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39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87D3-4830-45D8-AAA9-1744E9A5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072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3040" indent="-20304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527520"/>
            <a:ext cx="150192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688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120" y="6527520"/>
            <a:ext cx="89244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15F001E4-5C14-4B19-8488-99B923492D43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5008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072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3040" indent="-20304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39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514600"/>
            <a:ext cx="84582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Design of a parallel software correlator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Nico Kruith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Joint Institute for VLBI in Europe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2249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Correlator no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32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relates time slic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eives the 1 or 2 bit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forms the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ay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re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nds the correlation product to the outpu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2514600"/>
            <a:ext cx="320040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or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4114800"/>
            <a:ext cx="2743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output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57800" y="2514600"/>
            <a:ext cx="2743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ple input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29400" y="45543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864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4008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8580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3152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7724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102-C983-44DB-9C84-D77248303D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2249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Output no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32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3040" indent="-203040">
              <a:lnSpc>
                <a:spcPct val="74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eives the output from the correlato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4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rts the sl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4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rites the output to disk for further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29200" y="2514600"/>
            <a:ext cx="320040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put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57800" y="4114800"/>
            <a:ext cx="2743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output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57800" y="2514600"/>
            <a:ext cx="2743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ple input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629400" y="45543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4864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9436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4008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8580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3152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77724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875-2AB4-4BB9-8A95-DA5292F2B5B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2249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Manager node &amp; Log no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3040" indent="-203040">
              <a:lnSpc>
                <a:spcPct val="74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ndles the entire correl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4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itialises the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4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egates time slices to the correlator node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4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eives log messages from all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1371600"/>
            <a:ext cx="320040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r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29200" y="3657600"/>
            <a:ext cx="320040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985-7E3B-4532-8B29-AC1E9BF2CC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Preliminary resul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57200" y="1143000"/>
          <a:ext cx="8229600" cy="5181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12" name=""/>
          <p:cNvSpPr/>
          <p:nvPr/>
        </p:nvSpPr>
        <p:spPr>
          <a:xfrm>
            <a:off x="5943600" y="1754280"/>
            <a:ext cx="284004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AMD dual cores, 2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 Gb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stored locally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C0B-EAFF-435F-BFC0-F2A2D390FFA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33440"/>
            <a:ext cx="820908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VLBI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06360" y="114300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8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Software correlator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43434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60640" y="2595600"/>
            <a:ext cx="2982960" cy="2433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97400" y="2209680"/>
            <a:ext cx="1440" cy="990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32400" y="22860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2860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71800" y="154620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03800" y="154620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114800" y="1546200"/>
            <a:ext cx="739800" cy="739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00400" y="3200400"/>
            <a:ext cx="2514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ay 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3886200"/>
            <a:ext cx="2514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4840" y="36576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711440"/>
            <a:ext cx="21034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esc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5486400"/>
            <a:ext cx="2103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429000"/>
            <a:ext cx="2103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ftware corre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5257800"/>
            <a:ext cx="45720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0B0-62A0-4900-AE7C-46B0F846D46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2105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Software correlator: detail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86480" y="114444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39120" y="114300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98640" y="11444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ion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6280" y="160020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put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02840" y="251460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annel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7360" y="365760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ay cor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06440" y="457200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3120" y="297180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ay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53120" y="52578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7080" y="6094440"/>
            <a:ext cx="25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st-processing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24360" y="1600200"/>
            <a:ext cx="457200" cy="457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24360" y="25146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5" idx="3"/>
            <a:endCxn id="136" idx="0"/>
          </p:cNvCxnSpPr>
          <p:nvPr/>
        </p:nvCxnSpPr>
        <p:spPr>
          <a:xfrm>
            <a:off x="3252960" y="205740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2449440" y="2971800"/>
            <a:ext cx="457200" cy="2286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24360" y="36576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6" idx="2"/>
            <a:endCxn id="139" idx="0"/>
          </p:cNvCxnSpPr>
          <p:nvPr/>
        </p:nvCxnSpPr>
        <p:spPr>
          <a:xfrm>
            <a:off x="3252960" y="2971440"/>
            <a:ext cx="2160" cy="686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1" name=""/>
          <p:cNvCxnSpPr>
            <a:stCxn id="138" idx="3"/>
            <a:endCxn id="139" idx="0"/>
          </p:cNvCxnSpPr>
          <p:nvPr/>
        </p:nvCxnSpPr>
        <p:spPr>
          <a:xfrm>
            <a:off x="2677680" y="3200400"/>
            <a:ext cx="57708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4624560" y="4572000"/>
            <a:ext cx="457200" cy="457200"/>
          </a:xfrm>
          <a:prstGeom prst="plus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95960" y="1600200"/>
            <a:ext cx="457200" cy="457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95960" y="25146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3" idx="3"/>
            <a:endCxn id="144" idx="0"/>
          </p:cNvCxnSpPr>
          <p:nvPr/>
        </p:nvCxnSpPr>
        <p:spPr>
          <a:xfrm>
            <a:off x="4624560" y="205740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3821040" y="2971800"/>
            <a:ext cx="457200" cy="2286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95960" y="36576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4" idx="2"/>
            <a:endCxn id="147" idx="0"/>
          </p:cNvCxnSpPr>
          <p:nvPr/>
        </p:nvCxnSpPr>
        <p:spPr>
          <a:xfrm>
            <a:off x="4624560" y="2971440"/>
            <a:ext cx="2160" cy="686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47" idx="0"/>
          </p:cNvCxnSpPr>
          <p:nvPr/>
        </p:nvCxnSpPr>
        <p:spPr>
          <a:xfrm>
            <a:off x="4049280" y="3200400"/>
            <a:ext cx="57708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6797520" y="1600200"/>
            <a:ext cx="457200" cy="457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97520" y="25146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51" idx="0"/>
          </p:cNvCxnSpPr>
          <p:nvPr/>
        </p:nvCxnSpPr>
        <p:spPr>
          <a:xfrm>
            <a:off x="7025760" y="2057400"/>
            <a:ext cx="2520" cy="4579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6224760" y="2971800"/>
            <a:ext cx="457200" cy="2286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97520" y="36576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1" idx="2"/>
            <a:endCxn id="154" idx="0"/>
          </p:cNvCxnSpPr>
          <p:nvPr/>
        </p:nvCxnSpPr>
        <p:spPr>
          <a:xfrm>
            <a:off x="7025760" y="2971440"/>
            <a:ext cx="2520" cy="686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6" name=""/>
          <p:cNvCxnSpPr>
            <a:stCxn id="153" idx="3"/>
            <a:endCxn id="154" idx="0"/>
          </p:cNvCxnSpPr>
          <p:nvPr/>
        </p:nvCxnSpPr>
        <p:spPr>
          <a:xfrm>
            <a:off x="6453000" y="3200400"/>
            <a:ext cx="57348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7" name=""/>
          <p:cNvCxnSpPr>
            <a:stCxn id="139" idx="2"/>
            <a:endCxn id="142" idx="0"/>
          </p:cNvCxnSpPr>
          <p:nvPr/>
        </p:nvCxnSpPr>
        <p:spPr>
          <a:xfrm>
            <a:off x="3252600" y="4114800"/>
            <a:ext cx="160092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8" name=""/>
          <p:cNvCxnSpPr>
            <a:stCxn id="147" idx="2"/>
            <a:endCxn id="142" idx="0"/>
          </p:cNvCxnSpPr>
          <p:nvPr/>
        </p:nvCxnSpPr>
        <p:spPr>
          <a:xfrm>
            <a:off x="4624200" y="4114800"/>
            <a:ext cx="22932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9" name=""/>
          <p:cNvCxnSpPr>
            <a:stCxn id="154" idx="2"/>
            <a:endCxn id="142" idx="0"/>
          </p:cNvCxnSpPr>
          <p:nvPr/>
        </p:nvCxnSpPr>
        <p:spPr>
          <a:xfrm flipV="1" rot="10800000">
            <a:off x="4852440" y="4114440"/>
            <a:ext cx="2173680" cy="457920"/>
          </a:xfrm>
          <a:prstGeom prst="curvedConnector5">
            <a:avLst>
              <a:gd name="adj1" fmla="val 49991"/>
              <a:gd name="adj2" fmla="val 49960"/>
              <a:gd name="adj3" fmla="val 49991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5538960" y="1143000"/>
            <a:ext cx="37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4560" y="5257800"/>
            <a:ext cx="457200" cy="457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2" idx="2"/>
            <a:endCxn id="161" idx="1"/>
          </p:cNvCxnSpPr>
          <p:nvPr/>
        </p:nvCxnSpPr>
        <p:spPr>
          <a:xfrm>
            <a:off x="4853160" y="502884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63" name=""/>
          <p:cNvCxnSpPr>
            <a:stCxn id="161" idx="3"/>
          </p:cNvCxnSpPr>
          <p:nvPr/>
        </p:nvCxnSpPr>
        <p:spPr>
          <a:xfrm flipH="1">
            <a:off x="4846320" y="5715000"/>
            <a:ext cx="7200" cy="34992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EC2-59FF-4F08-AEFE-17AB6F941C1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343400" y="457200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8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Software correlator on a cluster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60640" y="2595600"/>
            <a:ext cx="2982960" cy="2433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2640" y="2728800"/>
            <a:ext cx="507960" cy="298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2743200"/>
            <a:ext cx="507960" cy="298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9800" y="2754360"/>
            <a:ext cx="507960" cy="298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6640" y="3678120"/>
            <a:ext cx="298440" cy="29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0800" y="3697200"/>
            <a:ext cx="298440" cy="29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06840" y="3692520"/>
            <a:ext cx="298440" cy="29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13320" y="3676680"/>
            <a:ext cx="298440" cy="29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67280" y="3697200"/>
            <a:ext cx="298440" cy="29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62640" y="3686040"/>
            <a:ext cx="298440" cy="29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32160" y="3025800"/>
            <a:ext cx="1440" cy="65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32160" y="3027240"/>
            <a:ext cx="447840" cy="65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32160" y="3027240"/>
            <a:ext cx="895320" cy="66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32160" y="3027240"/>
            <a:ext cx="1341360" cy="665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32160" y="3027240"/>
            <a:ext cx="1789200" cy="65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32160" y="3025800"/>
            <a:ext cx="2236680" cy="65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760560" y="3040200"/>
            <a:ext cx="631800" cy="63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762360" y="3052800"/>
            <a:ext cx="1674720" cy="62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32160" y="3027240"/>
            <a:ext cx="447840" cy="65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314880" y="3052800"/>
            <a:ext cx="1077840" cy="62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314520" y="3052800"/>
            <a:ext cx="2122200" cy="62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208400" y="3025800"/>
            <a:ext cx="184320" cy="671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210200" y="3052800"/>
            <a:ext cx="1226880" cy="646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32160" y="3027240"/>
            <a:ext cx="895320" cy="66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32160" y="3027240"/>
            <a:ext cx="895320" cy="66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75080" y="3052800"/>
            <a:ext cx="298440" cy="639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57320" y="3052800"/>
            <a:ext cx="779400" cy="639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32160" y="3027240"/>
            <a:ext cx="1341360" cy="665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75080" y="3052800"/>
            <a:ext cx="746280" cy="62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103720" y="3052800"/>
            <a:ext cx="333360" cy="62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32160" y="3027240"/>
            <a:ext cx="1789200" cy="65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75080" y="3027240"/>
            <a:ext cx="1193760" cy="65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19800" y="3052800"/>
            <a:ext cx="149040" cy="633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27480" y="4432320"/>
            <a:ext cx="298440" cy="29844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32160" y="3976560"/>
            <a:ext cx="1042920" cy="457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3976560"/>
            <a:ext cx="596880" cy="457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27480" y="3995640"/>
            <a:ext cx="149400" cy="438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357800" y="3990960"/>
            <a:ext cx="333360" cy="442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357440" y="3994200"/>
            <a:ext cx="780840" cy="438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358880" y="3983040"/>
            <a:ext cx="1227240" cy="449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30240" y="1828800"/>
            <a:ext cx="1347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esc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30240" y="2724120"/>
            <a:ext cx="1373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put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3684600"/>
            <a:ext cx="1879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or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4440240"/>
            <a:ext cx="1436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put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3600" y="3200400"/>
            <a:ext cx="29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3997440"/>
            <a:ext cx="22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rting and me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3200400"/>
            <a:ext cx="269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and channel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5257800"/>
            <a:ext cx="45720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97400" y="22096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32400" y="2251080"/>
            <a:ext cx="1440" cy="49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7560" y="2251080"/>
            <a:ext cx="1440" cy="49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971800" y="154620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203800" y="154620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114800" y="1546200"/>
            <a:ext cx="739800" cy="73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3CF-E498-49DF-B3CD-A378A47DC5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1376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Outline of the correlator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43400" y="2057400"/>
            <a:ext cx="1440" cy="3429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200400" y="2514600"/>
            <a:ext cx="2286000" cy="34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nel ex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429000" y="456876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657600" y="456876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886200" y="456876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800600" y="456876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200400"/>
            <a:ext cx="2286000" cy="34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3886200"/>
            <a:ext cx="2286000" cy="34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027760" y="456876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256360" y="456876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114800" y="456876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572000" y="456876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5487840"/>
            <a:ext cx="45720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854440"/>
            <a:ext cx="3946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nels: collection of several tr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2168640"/>
            <a:ext cx="2481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cks: total 32/64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540240"/>
            <a:ext cx="3946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nels: collection of several tr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4226040"/>
            <a:ext cx="1563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oat / 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4802040"/>
            <a:ext cx="2286000" cy="34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15000" y="2514600"/>
            <a:ext cx="2143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, in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15000" y="3200400"/>
            <a:ext cx="2143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, in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15000" y="3886200"/>
            <a:ext cx="1965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,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4800600"/>
            <a:ext cx="117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57400" y="1482840"/>
            <a:ext cx="1357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51520" y="1600200"/>
            <a:ext cx="1592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140440"/>
            <a:ext cx="2486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oat / double, low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18B-5518-4D35-AFEA-1CE98F946CC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1376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Outline of the correlator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36960" y="2514600"/>
            <a:ext cx="422280" cy="1371600"/>
          </a:xfrm>
          <a:custGeom>
            <a:avLst/>
            <a:gdLst>
              <a:gd name="textAreaLeft" fmla="*/ 0 w 422280"/>
              <a:gd name="textAreaRight" fmla="*/ 152280 w 42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28800" y="2286000"/>
            <a:ext cx="1440" cy="3200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85800" y="2743200"/>
            <a:ext cx="2286000" cy="34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nel ex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914400" y="456732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143000" y="456732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371600" y="456732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286000" y="456732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429000"/>
            <a:ext cx="2286000" cy="34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4114800"/>
            <a:ext cx="2286000" cy="34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4800600"/>
            <a:ext cx="2286000" cy="34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513160" y="456732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741760" y="456732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600200" y="456732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057400" y="456732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06720" y="3886200"/>
            <a:ext cx="422280" cy="1371600"/>
          </a:xfrm>
          <a:custGeom>
            <a:avLst/>
            <a:gdLst>
              <a:gd name="textAreaLeft" fmla="*/ 0 w 422280"/>
              <a:gd name="textAreaRight" fmla="*/ 152280 w 42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5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41680" y="2971800"/>
            <a:ext cx="1258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put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41680" y="4343400"/>
            <a:ext cx="1689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70120" y="5486400"/>
            <a:ext cx="1436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put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5486400"/>
            <a:ext cx="45720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E1D-DEE6-4B09-8FAA-60C324FB22B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1376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Design of a no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1376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3040" indent="-203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node is a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node h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veral contro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log wr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nctionality for delegating MPI messag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ontroller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ess MPI messag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 of controller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ndeling input/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dicated controllers for the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243A-05DD-46A8-B36C-C2268901B9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433440"/>
            <a:ext cx="8224920" cy="60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Input no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328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d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rectly from tele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layed from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ecks validity of th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 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nds time slices to the correlate nodes (1 or 2 bi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2514600"/>
            <a:ext cx="320040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put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629400" y="20397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486400" y="45543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943600" y="45543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400800" y="45543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858000" y="45543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4114800"/>
            <a:ext cx="2743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ple output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2514600"/>
            <a:ext cx="2743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input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7315200" y="45543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772400" y="4554360"/>
            <a:ext cx="1440" cy="49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of a parallel software correla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A7C-7DCF-496A-8068-A682BF1BEC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5th, 200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lide 1</dc:title>
</cp:coreProperties>
</file>